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926-10B1-41DD-97D5-553B3F87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964-B463-464A-B003-B603162E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2D5-9629-42E6-8737-521C9523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60F-E17B-4B0C-BF0B-212EE785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249-053A-44BF-B98A-BA70C740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4E9-7B75-467D-AD3D-888A0B0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D439-D6EB-41FC-AA89-26DFEEB2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8604-289D-498B-AA7A-AB8E811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95E2-32BA-46D5-A4C2-AACDEF4B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605-CDF2-47E3-8247-EE4223A6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D337-21FC-4AD5-921C-7A6EC68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0C6-8E96-44F0-99A0-D9EDA90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C17-9A8E-41B1-892D-34F77FA7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1C74-D64D-4608-A5E6-7D3DD951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D417-5958-489B-9E44-E41DE90C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7991-3F7A-4D4B-ACB0-42E6B541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71D-9F95-4391-9966-521298D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BFF-B50C-473A-B907-1070AE95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5D0-17C5-47AE-8A55-3F387E0A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A45-F318-4968-BEE7-50A13EC8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852-C864-4409-B7ED-E0EE3B2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40C-AD84-4309-9074-E1A01BF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B91-6658-4561-AD73-76D13F2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A69-0571-4D4F-ACD7-90037CC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D3FA-872C-4CCA-92EC-9A2EAA87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B6A-0C22-4B9A-8F7E-5E9A9347A3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uthentichistory.com/1950s/speeches/19460305_Winston_Churchill_Iron_Curtain_Speech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The Cold War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s. Car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tai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a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mmunism; to prevent the spread of 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octrine uniting military, economic and diplomatic strategies to turn back communism and to secure for the United States the leading role in world af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C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orge Kenn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 Telegra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ed expansion of Soviet control in Eastern Eur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lin’s speech- inevitability of war with capitalist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objective must be “a long-term, patient, but firm and vigilant containment of Russian expansive tendenci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ged Truman to deploy it’s economic and military resources to prevent the Soviets from expanding beyond their sphere of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RETS- looking back Kennan regretted not including the following info in his repor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to emphasize the difficulties that Moscow would face in trying to rule East. And Central Eur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to recognize that his essay would add to the fear of Commu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ruman Doct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itary and economic aid to Turkey and Gree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agreed to $400 million in 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“alternative ways of life”- Tru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cy &amp; freedom OR totalitarianism, terror &amp; op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d program was successful at resisting Mosc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 was to prevent the Soviet Union from gaining a stronghold in either Greece of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SV from gaining the Strait of Dardanelles (access to the Med. S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nry Wallace- unfounded fear of Soviet U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conservative- concerned about the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ed deeper, longer lasting foreign “entangleme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n Acheson- “Not since Rome and Carthage….. [ has there been ] such a polarization of power on this ear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help those that wish to be democra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arshall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ground- Europe- post WW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ppled industry &amp; infra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ered &amp; shaken are the strongholds of democ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ed a program of massive US economic assistance to Western Eur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arshall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rge C. Marsh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humanitarian rel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d return of economic health and political stabl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imed “not against any country or doctrine but against hunger, poverty, desperation and chao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Marshall Pla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rther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mote European unity and to end national riva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a united Europe could present a strong front against Soviet expansio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ft a unified recovery program- leading to an American-style of capit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ion- Andrei Vyshin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lit Europe into two camps” , denied European nations their “inalienable righ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arshall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S benefit- $$$$$$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US export to Eur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European ex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sent exports on CREDIT b/c Europe lacked cred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 ordered farm equipment, industrial machinery, and other goods = $ to help American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ited N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ystem of collective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ied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ability to carry out 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Assemb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 international peace and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. Members:  US, GB, SU,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temp. members- elected for 2 yr te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arshall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urope’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uild Europe’s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living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val of world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e of multinat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front against 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ven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e 1948-  Western allies allow W. Germany to become developed.  1 nation instead of divided zones of o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 felt Soviet security was threatened and stopped all traffic to West Ber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&amp; GB respon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rlin Airlif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ood and supplies to W. Ber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1949- Soviet Union lifted block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&amp; West Berlin established as separat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ATO &amp; Warsaw P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Atlantic Treaty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ttack against one shall be considered an attack against them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saw 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viet response to N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time alli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retton Wood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Hampshire in July 19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ied 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an planning to rebuild a world financia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ld Bank- help poor countries to develop transportation, health and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 Monetary Fund (IMF)- promote trade, monetary cooperation, and exchange rate stability among non-Communist industrial 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n by Soviet Union as a strategy to end 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turn for sovereignty they agreed to house US military bases and tro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egic move for the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st Red Army- Mao Zedong- mainland Ch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ists- Chiang Kai-Shek- Taiw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- Truman “lost Chi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 signed a formal alliance with Mao Zedong ***threat of international communism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S/Soviet Arms R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expands # of atomic bom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ing in Bikini Ato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viets began testing A-bomb in 19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began testing hydrogen bombs (more powerful than atom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bikini tests"/>
          <p:cNvPicPr/>
          <p:nvPr/>
        </p:nvPicPr>
        <p:blipFill>
          <a:blip r:embed="rId1"/>
          <a:stretch/>
        </p:blipFill>
        <p:spPr>
          <a:xfrm>
            <a:off x="4876920" y="1143000"/>
            <a:ext cx="3354120" cy="3114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ydrogen bomb"/>
          <p:cNvPicPr/>
          <p:nvPr/>
        </p:nvPicPr>
        <p:blipFill>
          <a:blip r:embed="rId2"/>
          <a:stretch/>
        </p:blipFill>
        <p:spPr>
          <a:xfrm>
            <a:off x="4572000" y="4035600"/>
            <a:ext cx="41403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n the Homefront: Trum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3" name="Picture 7" descr="Truman"/>
          <p:cNvPicPr/>
          <p:nvPr/>
        </p:nvPicPr>
        <p:blipFill>
          <a:blip r:embed="rId1"/>
          <a:stretch/>
        </p:blipFill>
        <p:spPr>
          <a:xfrm>
            <a:off x="3138480" y="1793880"/>
            <a:ext cx="2867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rum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iked by many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 the Boys Home Movement- rapid demobi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- Hartley Act (ve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n 1948 election- Americans feared a reversal of the New D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gregated armed forces and banned discrimination in federal civil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 D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ruman VS. Congres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headway was m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utes over Fair De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utes over Taft-Hartley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ety of bills were defe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United N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perm member had absolu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e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ern nations dominated and blocked communist 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itarian programs were success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al Doctrine of Human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lienable rights of all people to religious and civil lib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aft-Hartley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 labor bil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d much of the Wagner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d union officials to swear they weren’t Commu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it more difficult for workers to establish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man vetoed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overrode the ve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. Party wanted Truman to resign, to be replaced by Eisenh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air De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man’s reform program includ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ealth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aid to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public hou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farm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ing minimum wage and socia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ves blocked most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. wage and ss were the exce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air De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reforms were defeated for 2 rea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lict between Truman and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policy concerns of the Cold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n the Homefront:  Subterfu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5" name="Picture 6" descr="big%20brother"/>
          <p:cNvPicPr/>
          <p:nvPr/>
        </p:nvPicPr>
        <p:blipFill>
          <a:blip r:embed="rId1"/>
          <a:stretch/>
        </p:blipFill>
        <p:spPr>
          <a:xfrm>
            <a:off x="3027240" y="1600200"/>
            <a:ext cx="3089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ational Security Act (1947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Department of Defense, National Security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er and coordinate defense policies and to advice the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Central Intelligence Agency (C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political, military and economic information from around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ssified- secret from Congress and publ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r of Communist conspiracy and sub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 9835- barred members of the Communist Party &amp; sympathizers from the fede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alist of possibly subversive organiz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n the Homefront: 2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Red Sca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1" name="Picture 7" descr="Protest"/>
          <p:cNvPicPr/>
          <p:nvPr/>
        </p:nvPicPr>
        <p:blipFill>
          <a:blip r:embed="rId1"/>
          <a:stretch/>
        </p:blipFill>
        <p:spPr>
          <a:xfrm>
            <a:off x="3657600" y="2590920"/>
            <a:ext cx="5311800" cy="3948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-CounterattackMasthead"/>
          <p:cNvPicPr/>
          <p:nvPr/>
        </p:nvPicPr>
        <p:blipFill>
          <a:blip r:embed="rId2"/>
          <a:stretch/>
        </p:blipFill>
        <p:spPr>
          <a:xfrm rot="20993400">
            <a:off x="380880" y="1752120"/>
            <a:ext cx="5319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UA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se Un-American Activities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ly witness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friendly witnesses”- stood behi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 freedom of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tisers pulled funding during particular mov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ed for Communists in government, Hollywood and organizations (Boy Scou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spionage Case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ger His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icial with the State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sed of being a Commun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sed of giving secret documents to a Commun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gui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6" descr="alger hiss"/>
          <p:cNvPicPr/>
          <p:nvPr/>
        </p:nvPicPr>
        <p:blipFill>
          <a:blip r:embed="rId1"/>
          <a:stretch/>
        </p:blipFill>
        <p:spPr>
          <a:xfrm>
            <a:off x="5334120" y="2133720"/>
            <a:ext cx="30528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spionage Case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Julius &amp; Ethel Rosenberg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sed of stealing &amp; plotting to convey atomic secrets to Soviets during WW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lty of treason &amp; executed in 19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ed in 19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7" descr="rosenbergs"/>
          <p:cNvPicPr/>
          <p:nvPr/>
        </p:nvPicPr>
        <p:blipFill>
          <a:blip r:embed="rId1"/>
          <a:stretch/>
        </p:blipFill>
        <p:spPr>
          <a:xfrm>
            <a:off x="5410080" y="3200400"/>
            <a:ext cx="3208320" cy="3654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protest of rosenberg"/>
          <p:cNvPicPr/>
          <p:nvPr/>
        </p:nvPicPr>
        <p:blipFill>
          <a:blip r:embed="rId2"/>
          <a:stretch/>
        </p:blipFill>
        <p:spPr>
          <a:xfrm>
            <a:off x="762120" y="3886200"/>
            <a:ext cx="40305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uremberg Trial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al of war crimes for the holoca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ILTY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war crimes and atrociti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8" descr="nuremberg trial"/>
          <p:cNvPicPr/>
          <p:nvPr/>
        </p:nvPicPr>
        <p:blipFill>
          <a:blip r:embed="rId1"/>
          <a:stretch/>
        </p:blipFill>
        <p:spPr>
          <a:xfrm>
            <a:off x="5867280" y="2819520"/>
            <a:ext cx="2853000" cy="3801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nuremberg_defendants"/>
          <p:cNvPicPr/>
          <p:nvPr/>
        </p:nvPicPr>
        <p:blipFill>
          <a:blip r:embed="rId2"/>
          <a:stretch/>
        </p:blipFill>
        <p:spPr>
          <a:xfrm>
            <a:off x="457200" y="2819520"/>
            <a:ext cx="48625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cCarthyis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ph McCar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Communist conspiracy reached into the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d accu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imed Democrats were “soft on Communism” b/c they had “lost” Ch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McCarthy"/>
          <p:cNvPicPr/>
          <p:nvPr/>
        </p:nvPicPr>
        <p:blipFill>
          <a:blip r:embed="rId1"/>
          <a:stretch/>
        </p:blipFill>
        <p:spPr>
          <a:xfrm>
            <a:off x="4648320" y="1905120"/>
            <a:ext cx="3822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ence critics of the Col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after Jews, African Americans, immigrants, homosexuals, women’s groups- those that were too weak to fight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Carthy’s popularity grew because of the American fear of 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afraid to go against him because he became so power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 seen as a bully during the televised Army-McCarthy hearings- end of car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ch hunt” lasted for 3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n the Homefront:  Domest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by Boom- 1950s- 1960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ples married earlier, had children earlier, had more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Spock “Baby and Child Car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Baby and child care"/>
          <p:cNvPicPr/>
          <p:nvPr/>
        </p:nvPicPr>
        <p:blipFill>
          <a:blip r:embed="rId1"/>
          <a:stretch/>
        </p:blipFill>
        <p:spPr>
          <a:xfrm>
            <a:off x="609588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Dr"/>
          <p:cNvPicPr/>
          <p:nvPr/>
        </p:nvPicPr>
        <p:blipFill>
          <a:blip r:embed="rId2"/>
          <a:stretch/>
        </p:blipFill>
        <p:spPr>
          <a:xfrm>
            <a:off x="1447920" y="3733920"/>
            <a:ext cx="2203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sumer Spend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income families = middle class= higher standard of living= more consumer sp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50s kitchen"/>
          <p:cNvPicPr/>
          <p:nvPr/>
        </p:nvPicPr>
        <p:blipFill>
          <a:blip r:embed="rId1"/>
          <a:stretch/>
        </p:blipFill>
        <p:spPr>
          <a:xfrm>
            <a:off x="3962520" y="3124080"/>
            <a:ext cx="4457520" cy="3533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50s television"/>
          <p:cNvPicPr/>
          <p:nvPr/>
        </p:nvPicPr>
        <p:blipFill>
          <a:blip r:embed="rId2"/>
          <a:stretch/>
        </p:blipFill>
        <p:spPr>
          <a:xfrm>
            <a:off x="7543800" y="380880"/>
            <a:ext cx="1009800" cy="1076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50s telephone"/>
          <p:cNvPicPr/>
          <p:nvPr/>
        </p:nvPicPr>
        <p:blipFill>
          <a:blip r:embed="rId3"/>
          <a:stretch/>
        </p:blipFill>
        <p:spPr>
          <a:xfrm>
            <a:off x="609480" y="457200"/>
            <a:ext cx="1233720" cy="1100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vacuum"/>
          <p:cNvPicPr/>
          <p:nvPr/>
        </p:nvPicPr>
        <p:blipFill>
          <a:blip r:embed="rId4"/>
          <a:stretch/>
        </p:blipFill>
        <p:spPr>
          <a:xfrm>
            <a:off x="762120" y="3200400"/>
            <a:ext cx="2565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y Graham- evangelical minister-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levised crusades for religious re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Centered homes” and warned against women who tried to “wear the trouser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billy graham"/>
          <p:cNvPicPr/>
          <p:nvPr/>
        </p:nvPicPr>
        <p:blipFill>
          <a:blip r:embed="rId1"/>
          <a:stretch/>
        </p:blipFill>
        <p:spPr>
          <a:xfrm>
            <a:off x="4648320" y="1523880"/>
            <a:ext cx="3757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d against apathy toward the threat of Commu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6" descr="invasion-of-the-body-snatchers-movie-poster1"/>
          <p:cNvPicPr/>
          <p:nvPr/>
        </p:nvPicPr>
        <p:blipFill>
          <a:blip r:embed="rId1"/>
          <a:stretch/>
        </p:blipFill>
        <p:spPr>
          <a:xfrm>
            <a:off x="5105520" y="1523880"/>
            <a:ext cx="29890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5- Korea divided at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ll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= Soviets   South=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9- USSR &amp; US pulled out of Ko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0 North invaded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w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y the Sovie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man got approval from UN Security Council to send troops.  MacArthur was sent to stop the Communist dr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5" descr="38thPar"/>
          <p:cNvPicPr/>
          <p:nvPr/>
        </p:nvPicPr>
        <p:blipFill>
          <a:blip r:embed="rId1"/>
          <a:stretch/>
        </p:blipFill>
        <p:spPr>
          <a:xfrm>
            <a:off x="5715000" y="533520"/>
            <a:ext cx="2641680" cy="2662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rossing_the_38th_parallel"/>
          <p:cNvPicPr/>
          <p:nvPr/>
        </p:nvPicPr>
        <p:blipFill>
          <a:blip r:embed="rId2"/>
          <a:stretch/>
        </p:blipFill>
        <p:spPr>
          <a:xfrm rot="20569800">
            <a:off x="609480" y="609120"/>
            <a:ext cx="3654720" cy="2806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korea"/>
          <p:cNvPicPr/>
          <p:nvPr/>
        </p:nvPicPr>
        <p:blipFill>
          <a:blip r:embed="rId3"/>
          <a:stretch/>
        </p:blipFill>
        <p:spPr>
          <a:xfrm>
            <a:off x="3352680" y="2362320"/>
            <a:ext cx="3057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man expanded war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sh Communists back to Ch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unite Korea as a democratic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’s respo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ing the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lel would be seen as a security thr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Arthur- promised a speedy victory and the boys would be “home for Christma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 entered the conflict and pushed the US back across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mate at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mo of negotiations and f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 substitute for victory!”- MacArth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Arthur was dismissed for insubordination- nearly caused a Chinese-American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1953-  North and South Korea occupied nearly identical territory as at the begi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uremberg Principl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soldier or civilian could be required, or should obey, an order that conflicted with basic humanitarian tene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ection of 195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. Dwight D. Eisenhower “Ik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P Richard Nix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ers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 accepting personal g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ers wanted peace and government assisted prospe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images.google.com/imgres?imgurl=http://www.americanrhetoric.com/images/richardnixoncheckers.JPG&amp;imgrefurl=http://www.americanrhetoric.com/speeches/richardnixoncheckers.html&amp;h=343&amp;w=464&amp;sz=22&amp;hl=en&amp;start=1&amp;tbnid=IxKo5wwljaELcM:&amp;tbnh=95&amp;tbnw=128&amp;prev=/images%3Fq%3DCheckers%2Bspeech%26gbv%3D2%26hl%3D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I_like_Ike"/>
          <p:cNvPicPr/>
          <p:nvPr/>
        </p:nvPicPr>
        <p:blipFill>
          <a:blip r:embed="rId1"/>
          <a:stretch/>
        </p:blipFill>
        <p:spPr>
          <a:xfrm>
            <a:off x="0" y="1676520"/>
            <a:ext cx="3801960" cy="3655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Ike button"/>
          <p:cNvPicPr/>
          <p:nvPr/>
        </p:nvPicPr>
        <p:blipFill>
          <a:blip r:embed="rId2"/>
          <a:stretch/>
        </p:blipFill>
        <p:spPr>
          <a:xfrm>
            <a:off x="5486400" y="609480"/>
            <a:ext cx="2970360" cy="286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richardnixoncheckers"/>
          <p:cNvPicPr/>
          <p:nvPr/>
        </p:nvPicPr>
        <p:blipFill>
          <a:blip r:embed="rId3"/>
          <a:stretch/>
        </p:blipFill>
        <p:spPr>
          <a:xfrm>
            <a:off x="4038480" y="3591000"/>
            <a:ext cx="4419720" cy="3267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nixonandcheckers"/>
          <p:cNvPicPr/>
          <p:nvPr/>
        </p:nvPicPr>
        <p:blipFill>
          <a:blip r:embed="rId4"/>
          <a:stretch/>
        </p:blipFill>
        <p:spPr>
          <a:xfrm>
            <a:off x="3733920" y="1066680"/>
            <a:ext cx="1625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and the Soviet Union opposed the reunification of Germ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and GB wanted to rebuild German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counterforce to the Soviet U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strong market of American and British go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inston Churchil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on Curtain speech at Westminister College in Missou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authentichistory.com/1950s/speeches/19460305_Winston_Churchill_Iron_Curtain_Speech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churchill peace"/>
          <p:cNvPicPr/>
          <p:nvPr/>
        </p:nvPicPr>
        <p:blipFill>
          <a:blip r:embed="rId1"/>
          <a:stretch/>
        </p:blipFill>
        <p:spPr>
          <a:xfrm>
            <a:off x="6019920" y="228600"/>
            <a:ext cx="2857320" cy="379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Truman_Introduces_Churchill"/>
          <p:cNvPicPr/>
          <p:nvPr/>
        </p:nvPicPr>
        <p:blipFill>
          <a:blip r:embed="rId2"/>
          <a:stretch/>
        </p:blipFill>
        <p:spPr>
          <a:xfrm>
            <a:off x="2133720" y="1828800"/>
            <a:ext cx="4222800" cy="4267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hurchill  poster"/>
          <p:cNvPicPr/>
          <p:nvPr/>
        </p:nvPicPr>
        <p:blipFill>
          <a:blip r:embed="rId3"/>
          <a:stretch/>
        </p:blipFill>
        <p:spPr>
          <a:xfrm>
            <a:off x="762120" y="762120"/>
            <a:ext cx="2038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ron Curtai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Picture 5" descr="iron curtain map"/>
          <p:cNvPicPr/>
          <p:nvPr/>
        </p:nvPicPr>
        <p:blipFill>
          <a:blip r:embed="rId1"/>
          <a:stretch/>
        </p:blipFill>
        <p:spPr>
          <a:xfrm>
            <a:off x="4648320" y="1447920"/>
            <a:ext cx="4132080" cy="4314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russia4"/>
          <p:cNvPicPr/>
          <p:nvPr/>
        </p:nvPicPr>
        <p:blipFill>
          <a:blip r:embed="rId2"/>
          <a:stretch/>
        </p:blipFill>
        <p:spPr>
          <a:xfrm>
            <a:off x="152280" y="2971800"/>
            <a:ext cx="4268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7:12:01Z</dcterms:created>
  <dc:creator>Technology Center</dc:creator>
  <dc:description/>
  <dc:language>en-US</dc:language>
  <cp:lastModifiedBy>Augusta County Schools</cp:lastModifiedBy>
  <dcterms:modified xsi:type="dcterms:W3CDTF">2012-04-26T19:21:47Z</dcterms:modified>
  <cp:revision>166</cp:revision>
  <dc:subject/>
  <dc:title>The Cold War</dc:title>
</cp:coreProperties>
</file>